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6254-F057-4CDC-8622-273702B7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169-0A47-49C9-863B-B4876B46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496-2989-4752-9262-6BF79BB0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5C67-A974-4634-B3B4-71C5E2B1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72C-79BB-4F38-A1B8-5E32B574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F70-EDD4-469E-A7F5-2A789844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21E-2B50-428E-A8EE-AB168F41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139-7F26-4DAE-AA31-18D3ABBD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2D3-E07A-467C-A1CD-2AA8657E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9AB8-5100-4E75-8549-F2E94A3B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68C-0029-47EB-991E-A3A7F9E1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6BBF-6141-4AF6-9683-39D3A017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DDC5-F66A-4AFC-84BD-6787E15C6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escuela superior de guerra aerea que queda en fuerte tiuna, con el teniente torrelles alfon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8T18:13:05Z</dcterms:created>
  <dc:creator>JOSE</dc:creator>
  <dc:description/>
  <dc:language>en-US</dc:language>
  <cp:lastModifiedBy>JOSE</cp:lastModifiedBy>
  <dcterms:modified xsi:type="dcterms:W3CDTF">2007-07-08T18:36:00Z</dcterms:modified>
  <cp:revision>2</cp:revision>
  <dc:subject/>
  <dc:title>Diapositiva 1</dc:title>
</cp:coreProperties>
</file>